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633-E2FC-4C38-A68F-FD1FC8AF1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E5A-4145-4265-AAE4-B3750F7A1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E57-C05B-4CFA-A8BB-84943CFB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AAF-ADE9-4BB1-833D-08CBB64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300-0DA7-44B5-80E9-5D406C10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976-691A-463A-8552-9F7CDE3F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206-94C4-4FCB-9A70-7EECF5D7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BC2-7920-48D6-A8ED-1CFB3E13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D4D-7107-4194-9E4E-D705CFEC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305-3A87-4B59-A706-4684DEA9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9C4-BCBE-4168-8007-93B7C70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645-BC41-4048-8AE2-478CF6B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908-31EC-4EB3-B4E4-6D4C60F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FB2-ED8A-45A4-98C9-47C9C2D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3F0-FED7-440A-A82D-77D2A0B2A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031-9879-4CF4-9D22-E374FE6E0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декабря 202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C68D-8117-4D9A-88E6-5EDE97FE0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декабр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0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1040" y="907920"/>
          <a:ext cx="8832960" cy="618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907920"/>
                    <a:ext cx="883296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0-12-01T09:51:47Z</dcterms:modified>
  <cp:revision>122</cp:revision>
  <dc:subject/>
  <dc:title>Презентация PowerPoint</dc:title>
</cp:coreProperties>
</file>